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CD5-8311-4FDD-AB60-AD36F18CB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4C7C-96C4-4612-BCA1-6B62E17B62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72F-0ED3-4FAB-8DAE-27B42B0A2B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D543-FFEB-4010-96BC-D5E2FF1DFA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2BEE-33EF-470C-ABA1-DBBEF34E56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B832-C3D7-4293-91A8-31C4F7B24E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39F-A415-40DF-90A6-6CD18AE9B9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7B0-75EF-4458-9E49-46CD4169F0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E92-AFDB-423E-82ED-8CECDA8BDF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6FB3-AB07-42FA-926E-1393C344B93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8A7-2068-48EB-A97F-EE10BA55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8A2-7603-41DE-8F19-3BA9C11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FB5-A3DC-414F-929D-7A6ABACD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BBD-304C-4646-940D-57AE9536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FB1E-C7F1-4E39-8557-C06842F4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A6833-6BAB-4E70-B18E-B28F90DB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9363-FF12-4256-93E8-653E3523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4B60-1690-4D85-8FE2-19662388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7AA5-0209-4659-A12D-6779B5A2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FC32-53B1-498E-92FB-B1E7DA1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AC75-F46A-49D0-9E22-0F0BC72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B82-2E59-41C3-9734-935EDD8E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44B16-7E7A-4E2A-AE0A-D3AFD6F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134A-10A5-4042-A189-6ECCFCD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9037-3FE1-49E2-8D6D-795B78AF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9B9E1-BC72-4411-B6C1-9EF50052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3B99E-5AD2-4D94-8D17-9D3029B9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547E-EB1B-4C9A-BBA8-D2A8298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E365-7691-4F0F-8EA5-7BEF4C68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DDAD-6424-4CD9-800D-5BF6B34B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D78D-8E9F-4832-9C42-1377B8E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632B-8A3C-4B42-A661-783EC43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541-E13D-48A3-8107-9F5EBC4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E44B-A342-48BA-A18E-FB606492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780B-52A8-4406-A15C-24DF8A4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F9FB-0A39-4F31-B1AD-C44B2FF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8377-7078-4D42-89A5-6825127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3EDA-6BD1-4835-96E6-64C9392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0211-7112-4A34-881F-FF828BC5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B1D4-A08A-48D6-9DDF-1DB44513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8F14E-821B-4A24-8B24-BD9D841C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087AE-627C-4198-ABD5-1DB0931B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7275C-866D-41D3-A69F-29874F1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C59-C4D2-4C55-9827-8FE96C92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FFC37-96B4-4DFE-A474-E2868DD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49735-93BE-4546-8626-4EC652B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A0BCB-026A-477C-97D3-75C68853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BE2E6-31F9-484C-9CFF-2DD0625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812A8-3D8C-4CF7-94C4-2828852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14DC3-E505-4842-988C-13D09099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63515-06C6-4A0B-9F70-11C60AB6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EC314-DB5D-4815-9502-19FC4A9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A3DBD-3FFC-4551-9A78-9CA79271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97998-A487-466A-B9F4-192DF156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DB1-723F-4FC7-8855-105012DD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88F0E-F4D0-4454-A057-566C4A1D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7A7AA-6FD3-4332-B710-735B819C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3DCDB-F483-4174-A6E0-6E8315EB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4359D-4B95-4D05-A6CF-C42EED2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1D9CE-A29F-4D72-8DB8-1E90B113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845E5-B11B-46C0-8540-0F7644CB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EAD35-17EA-472F-A6CD-9AC559F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D4966-1316-476C-98CC-73348FC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21B82-85B8-4AB4-A2FC-EE5EA978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7FECD-7241-4D6B-873E-38E795AE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FE9-CC6F-470D-9530-9114EC2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A4E58-95B8-4EB6-843C-7014A8EF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C327A-2210-4B3E-88D9-03E171C8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11D71-F57A-4411-ABED-EB0B1F5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D1EA3-875B-4FB6-8DC4-547105A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9F02E-C5FF-483E-A07B-31EDBF7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5E710-98C7-491E-8E21-4B8E311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F0E17-487C-4B29-977B-DDB3DCB8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179EB-BA07-4FA5-AFA9-1625CFB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DE7E0-9BBD-41EB-9DE3-6507981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3A3D3-68B2-45F2-8E66-9D28113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6AF-DAF9-4C2D-A8BA-F4388DF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B16DC-6667-4075-A345-D6A17200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1FCA7-3468-41B9-AA07-BDEEEF6C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8D685-F4D8-4C1B-8540-A42255C7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FD8-25F2-423E-A54C-4480046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BA2-9981-41A0-B382-84D889AA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7B46-7164-4F4D-9FB5-00591B6AE1CF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45D-A576-4B9C-8D16-F4EC6879BA5E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4B3-F0E2-45E5-BBFE-BC5516621BC4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EC29-33C9-4215-BD1D-99A92E3E57C9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36F1-AAE8-469F-B9A2-5F3E081DED3E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BF22-CC8D-4196-A162-52690DE2F2D2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4e7ed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96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                 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entury Gothic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«Мораль сей басни такова…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Иван Андреевич Крылов  - русский баснописец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предмет: литератур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класс: 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7" descr="42"/>
          <p:cNvPicPr/>
          <p:nvPr/>
        </p:nvPicPr>
        <p:blipFill>
          <a:blip r:embed="rId1"/>
          <a:stretch/>
        </p:blipFill>
        <p:spPr>
          <a:xfrm>
            <a:off x="171360" y="3724200"/>
            <a:ext cx="3907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фрагменты"/>
          <p:cNvPicPr/>
          <p:nvPr/>
        </p:nvPicPr>
        <p:blipFill>
          <a:blip r:embed="rId1"/>
          <a:srcRect l="0" t="37732" r="0" b="3251"/>
          <a:stretch/>
        </p:blipFill>
        <p:spPr>
          <a:xfrm>
            <a:off x="2916360" y="3375000"/>
            <a:ext cx="6227640" cy="3483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023840" y="981000"/>
            <a:ext cx="805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Основополагающий вопрос проекта</a:t>
            </a: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Какова роль животных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в баснях И. А. Крылова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082520" y="981000"/>
            <a:ext cx="78616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Century Gothic"/>
              </a:rPr>
              <a:t>Проблемные вопросы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Какие моральные проблем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в  баснях затрагивает И.А. Крылов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Какие философские, социальные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темы рассматривает автор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1187280" y="620640"/>
            <a:ext cx="533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Вопросы учебной темы (частные)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1. Что такое басня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2. Какие басни написал И.Крылов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3. Что такое иносказани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4. Каких баснописцев 18 века вы знает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50920" y="404640"/>
            <a:ext cx="95504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Дидактические цели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Познакомить детей с  творчество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писател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2.Расширить  знания о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литературном жанре басн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3.Привит любовь к чтению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4.Развить умение анализировать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литературный текст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5.Обучит навыку выразительного чтени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6.Развить творческие способности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http://thumbnail068.mylivepage.com/chunk68/3756900/2687/small_%D1%80%D0%B0%D0%BC%D0%BA%D0%B0%20%D1%88%D0%BA%D0%BE%D0%BB%D1%8C%D0%BD%D0%B0%D1%8F,%D1%83%D1%87%D0%B5%D0%BD%D0%B8%D0%BA%D0%B8%20%D0%B7%D0%B0%20%D0%BF%D0%B0%D1%80%D1%82%D0%BE%D0%B9.png.jpg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400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4284720" y="1197000"/>
            <a:ext cx="4859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entury Gothic"/>
              </a:rPr>
              <a:t>Продолжительность      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ремя выполнения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2 неде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Количество часов: 5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Количество уроко:6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468360" y="404640"/>
            <a:ext cx="81360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Представление результатов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1. Презентац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2. Викторина(кроссворд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3. Инсцениров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Picture 4" descr="http://biblioteki.net/foto/1220107254_807.jpg"/>
          <p:cNvPicPr/>
          <p:nvPr/>
        </p:nvPicPr>
        <p:blipFill>
          <a:blip r:embed="rId1"/>
          <a:stretch/>
        </p:blipFill>
        <p:spPr>
          <a:xfrm>
            <a:off x="5580000" y="2708280"/>
            <a:ext cx="3181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324000" y="333360"/>
            <a:ext cx="850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Century Gothic"/>
              </a:rPr>
              <a:t>Информационные ресурсы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Жуковский о  баснях Крыло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.А. Крылов Басн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.Г. Белинский Басни И.А. Крыло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2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52280"/>
            <a:ext cx="85471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51:38Z</dcterms:created>
  <dc:creator>я</dc:creator>
  <dc:description/>
  <dc:language>en-US</dc:language>
  <cp:lastModifiedBy>я</cp:lastModifiedBy>
  <dcterms:modified xsi:type="dcterms:W3CDTF">2011-04-12T10:42:24Z</dcterms:modified>
  <cp:revision>8</cp:revision>
  <dc:subject/>
  <dc:title>Слайд 1</dc:title>
</cp:coreProperties>
</file>